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40.png" ContentType="image/png"/>
  <Override PartName="/ppt/media/image4.jpeg" ContentType="image/jpeg"/>
  <Override PartName="/ppt/media/image25.jpeg" ContentType="image/jpeg"/>
  <Override PartName="/ppt/media/image2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3D2BC-05A4-4969-8568-2A1E46A5CA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8402-4655-4589-B254-B64DD5DFD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DB74A-931D-4F1D-B68D-B96271995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C3C74-3E1B-4A63-B6F6-DB59571B5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1AA36-2A29-43EF-9A21-4BACA76DE37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13D19-0B59-40AC-BCC2-61F1E29D727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interact with the U2700 modules through a familiar, instrument-like interface. Starting at the left and rotating counterclockwise, the examples shown here are the function generator, oscilloscope, switch matrix and source/measure unit. Each instrument has its own window so all can be quickly accessed to change settings, view readings or analyze resu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64336-47CA-498C-A062-A848C91AB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AEF0-DC5A-46AC-8BEB-EFE354266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6BDA1-3418-4E20-B4A4-97A6E7FA4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47028-0720-44F5-BC23-E3FD9CE00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9B739-BB51-4D41-9152-03BB235B5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58833-556B-45BB-ACC4-5B6080F7E0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7160" y="3648960"/>
            <a:ext cx="868824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6BFA9-5D01-400D-98E2-52C2889A7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716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928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72857-29D0-4BE4-B267-8341E1E9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4760" y="126648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2000" y="126648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7160" y="364896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4760" y="364896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2000" y="364896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15F93-D20B-4DCA-82BF-CD43714E5F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4BC5-E6D0-49DB-AAE4-D0E8E7884E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2E08-2874-4305-9014-9B37354BC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0878-99E3-4745-AE3E-C877A1737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7537-885A-453E-B0FF-AD64E8AB6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6E04-8004-4884-8CA6-634A279C9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27160"/>
            <a:ext cx="86914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304C-41B5-4F7D-A5F6-A7295D0A8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716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AF8E-DCEA-4DD0-A33D-D6B926C4B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6A8ED-81B0-440D-94D3-D29CAB47C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928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6C8C-81A1-4547-A333-8598B4F0D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7160" y="3648960"/>
            <a:ext cx="868824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9027-7492-4395-A385-AA55A0A74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7160" y="3648960"/>
            <a:ext cx="868824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A68D-9803-4741-9998-B4873C83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716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928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13DC-DED9-42AD-BFE2-D8F449EA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4760" y="126648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000" y="126648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7160" y="364896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4760" y="364896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000" y="3648960"/>
            <a:ext cx="279720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897A-E342-4E7E-823D-0CBD5BD7B6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30E6D-CAD8-4F25-A097-3DB74037A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A770F-665D-4574-8E3D-5CFA29228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CF502-8936-4F94-978B-8B9C448E7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6800" y="227160"/>
            <a:ext cx="86914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FE0C0-6643-4AAD-BFB7-903849B9C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716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8C809-E19F-4C5F-AF72-D1D60BB94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9280" y="364896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31517-9C3F-4E63-843E-54882C939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9280" y="1266480"/>
            <a:ext cx="423972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7160" y="3648960"/>
            <a:ext cx="8688240" cy="21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2B77B-5063-4818-8775-8449FDEE4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5" descr="footer_two-tone_revised_5-16_cir6"/>
          <p:cNvPicPr/>
          <p:nvPr/>
        </p:nvPicPr>
        <p:blipFill>
          <a:blip r:embed="rId2"/>
          <a:stretch/>
        </p:blipFill>
        <p:spPr>
          <a:xfrm>
            <a:off x="0" y="6229440"/>
            <a:ext cx="9144000" cy="628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7543800" y="6645240"/>
            <a:ext cx="137160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Jan 20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228240" y="6638760"/>
            <a:ext cx="61452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Page </a:t>
            </a:r>
            <a:fld id="{C777FC07-0FAB-404E-B8FE-091779573AD4}" type="slidenum"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33" descr="spark-385_150"/>
          <p:cNvPicPr/>
          <p:nvPr/>
        </p:nvPicPr>
        <p:blipFill>
          <a:blip r:embed="rId3"/>
          <a:stretch/>
        </p:blipFill>
        <p:spPr>
          <a:xfrm>
            <a:off x="4371840" y="6377040"/>
            <a:ext cx="1865520" cy="414360"/>
          </a:xfrm>
          <a:prstGeom prst="rect">
            <a:avLst/>
          </a:prstGeom>
          <a:ln w="0">
            <a:noFill/>
          </a:ln>
        </p:spPr>
      </p:pic>
      <p:pic>
        <p:nvPicPr>
          <p:cNvPr id="4" name="Picture 36" descr="BID_Logo_3_23f"/>
          <p:cNvPicPr/>
          <p:nvPr/>
        </p:nvPicPr>
        <p:blipFill>
          <a:blip r:embed="rId4"/>
          <a:stretch/>
        </p:blipFill>
        <p:spPr>
          <a:xfrm>
            <a:off x="8450280" y="49320"/>
            <a:ext cx="617400" cy="482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Aft>
                <a:spcPts val="1500"/>
              </a:spcAft>
              <a:buClr>
                <a:srgbClr val="990066"/>
              </a:buClr>
              <a:buSzPct val="8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Aft>
                <a:spcPts val="1500"/>
              </a:spcAft>
              <a:buClr>
                <a:srgbClr val="990066"/>
              </a:buClr>
              <a:buSzPct val="80000"/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Aft>
                <a:spcPts val="1500"/>
              </a:spcAft>
              <a:buClr>
                <a:srgbClr val="990066"/>
              </a:buClr>
              <a:buSzPct val="8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Aft>
                <a:spcPts val="1500"/>
              </a:spcAft>
              <a:buClr>
                <a:srgbClr val="990066"/>
              </a:buClr>
              <a:buSzPct val="8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Aft>
                <a:spcPts val="1500"/>
              </a:spcAft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Aft>
                <a:spcPts val="1500"/>
              </a:spcAft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2" descr="footer_two-tone_revised_5-16_cir6"/>
          <p:cNvPicPr/>
          <p:nvPr/>
        </p:nvPicPr>
        <p:blipFill>
          <a:blip r:embed="rId2"/>
          <a:stretch/>
        </p:blipFill>
        <p:spPr>
          <a:xfrm>
            <a:off x="0" y="6229440"/>
            <a:ext cx="9144000" cy="628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6" descr="spark-385_150"/>
          <p:cNvPicPr/>
          <p:nvPr/>
        </p:nvPicPr>
        <p:blipFill>
          <a:blip r:embed="rId3"/>
          <a:stretch/>
        </p:blipFill>
        <p:spPr>
          <a:xfrm>
            <a:off x="4371840" y="6377040"/>
            <a:ext cx="1865520" cy="4143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Aft>
                <a:spcPts val="1500"/>
              </a:spcAft>
              <a:buClr>
                <a:srgbClr val="990066"/>
              </a:buClr>
              <a:buSzPct val="8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Aft>
                <a:spcPts val="1500"/>
              </a:spcAft>
              <a:buClr>
                <a:srgbClr val="990066"/>
              </a:buClr>
              <a:buSzPct val="80000"/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Aft>
                <a:spcPts val="1500"/>
              </a:spcAft>
              <a:buClr>
                <a:srgbClr val="990066"/>
              </a:buClr>
              <a:buSzPct val="8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Aft>
                <a:spcPts val="1500"/>
              </a:spcAft>
              <a:buClr>
                <a:srgbClr val="990066"/>
              </a:buClr>
              <a:buSzPct val="8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Aft>
                <a:spcPts val="1500"/>
              </a:spcAft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Aft>
                <a:spcPts val="1500"/>
              </a:spcAft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3"/>
          </p:nvPr>
        </p:nvSpPr>
        <p:spPr>
          <a:xfrm>
            <a:off x="228240" y="6638760"/>
            <a:ext cx="61452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Page </a:t>
            </a:r>
            <a:fld id="{ED396537-F596-4F06-B02B-835F688DD4D9}" type="slidenum"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7543800" y="6645240"/>
            <a:ext cx="137160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Jan 20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0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image" Target="../media/image20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jpe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30.jpeg"/><Relationship Id="rId13" Type="http://schemas.openxmlformats.org/officeDocument/2006/relationships/image" Target="../media/image31.png"/><Relationship Id="rId14" Type="http://schemas.openxmlformats.org/officeDocument/2006/relationships/image" Target="../media/image30.jpeg"/><Relationship Id="rId15" Type="http://schemas.openxmlformats.org/officeDocument/2006/relationships/image" Target="../media/image30.jpeg"/><Relationship Id="rId16" Type="http://schemas.openxmlformats.org/officeDocument/2006/relationships/image" Target="../media/image32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5"/>
          <p:cNvSpPr/>
          <p:nvPr/>
        </p:nvSpPr>
        <p:spPr>
          <a:xfrm>
            <a:off x="228600" y="6638760"/>
            <a:ext cx="614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age </a:t>
            </a:r>
            <a:fld id="{A1724CA6-1AA1-4A5A-A14A-4C308B846401}" type="slidenum">
              <a:rPr b="0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1"/>
          <p:cNvSpPr/>
          <p:nvPr/>
        </p:nvSpPr>
        <p:spPr>
          <a:xfrm>
            <a:off x="7543800" y="6645240"/>
            <a:ext cx="13716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Jan 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7440" y="291600"/>
            <a:ext cx="506088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cc"/>
                </a:solidFill>
                <a:latin typeface="Arial"/>
              </a:rPr>
              <a:t>Agilent USB Modular Instruments &amp; Data Acquisition</a:t>
            </a:r>
            <a:endParaRPr b="1" lang="en-US" sz="3600" spc="-1" strike="noStrike">
              <a:solidFill>
                <a:srgbClr val="0099cc"/>
              </a:solidFill>
              <a:latin typeface="Arial"/>
            </a:endParaRPr>
          </a:p>
        </p:txBody>
      </p:sp>
      <p:pic>
        <p:nvPicPr>
          <p:cNvPr id="95" name="Picture 6" descr="C:\Documents and Settings\engchneo\My Documents\My Pictures\Agilent\Modular\DAQ Modular_withoutcili.jpg"/>
          <p:cNvPicPr/>
          <p:nvPr/>
        </p:nvPicPr>
        <p:blipFill>
          <a:blip r:embed="rId1"/>
          <a:stretch/>
        </p:blipFill>
        <p:spPr>
          <a:xfrm>
            <a:off x="2862360" y="2354400"/>
            <a:ext cx="50004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VEE Code Converter – How Does It Look Like?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85" name="TextBox 6"/>
          <p:cNvSpPr/>
          <p:nvPr/>
        </p:nvSpPr>
        <p:spPr>
          <a:xfrm>
            <a:off x="5715000" y="1185840"/>
            <a:ext cx="3166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the Command Logger files that you would like to convert to VE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convert more than one file at any one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les will be saved in the same folder as the Command Logger source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9" descr="ScreenHunter_02 Apr. 16 14.36.gif"/>
          <p:cNvPicPr/>
          <p:nvPr/>
        </p:nvPicPr>
        <p:blipFill>
          <a:blip r:embed="rId1"/>
          <a:stretch/>
        </p:blipFill>
        <p:spPr>
          <a:xfrm>
            <a:off x="179280" y="1165320"/>
            <a:ext cx="5330880" cy="40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Microsoft C#/C++/VB Code Converter – How Does It Look Like? 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88" name="Date Placeholder 3"/>
          <p:cNvSpPr/>
          <p:nvPr/>
        </p:nvSpPr>
        <p:spPr>
          <a:xfrm>
            <a:off x="7543800" y="6645240"/>
            <a:ext cx="13716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Jan 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lide Number Placeholder 4"/>
          <p:cNvSpPr/>
          <p:nvPr/>
        </p:nvSpPr>
        <p:spPr>
          <a:xfrm>
            <a:off x="228600" y="6638760"/>
            <a:ext cx="614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age </a:t>
            </a:r>
            <a:fld id="{EB4A8935-D3E7-487D-8047-1CBFC808767C}" type="slidenum">
              <a:rPr b="0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6"/>
          <p:cNvSpPr/>
          <p:nvPr/>
        </p:nvSpPr>
        <p:spPr>
          <a:xfrm>
            <a:off x="293760" y="5356080"/>
            <a:ext cx="851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a Command Logger File to Programming Codes and Save it to Disk Easily using the Code Co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9" descr="ScreenHunter_03 Apr. 16 14.40.gif"/>
          <p:cNvPicPr/>
          <p:nvPr/>
        </p:nvPicPr>
        <p:blipFill>
          <a:blip r:embed="rId1"/>
          <a:stretch/>
        </p:blipFill>
        <p:spPr>
          <a:xfrm>
            <a:off x="112680" y="619200"/>
            <a:ext cx="894384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Rectangle 2"/>
          <p:cNvGrpSpPr/>
          <p:nvPr/>
        </p:nvGrpSpPr>
        <p:grpSpPr>
          <a:xfrm>
            <a:off x="146160" y="3267000"/>
            <a:ext cx="1822320" cy="2530440"/>
            <a:chOff x="146160" y="3267000"/>
            <a:chExt cx="1822320" cy="2530440"/>
          </a:xfrm>
        </p:grpSpPr>
        <p:pic>
          <p:nvPicPr>
            <p:cNvPr id="97" name="Rectangle 2" descr=""/>
            <p:cNvPicPr/>
            <p:nvPr/>
          </p:nvPicPr>
          <p:blipFill>
            <a:blip r:embed="rId1"/>
            <a:stretch/>
          </p:blipFill>
          <p:spPr>
            <a:xfrm>
              <a:off x="146160" y="3267000"/>
              <a:ext cx="1822320" cy="253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154080" y="3274920"/>
              <a:ext cx="1809720" cy="251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Rectangle 11"/>
          <p:cNvGrpSpPr/>
          <p:nvPr/>
        </p:nvGrpSpPr>
        <p:grpSpPr>
          <a:xfrm>
            <a:off x="2004840" y="3267000"/>
            <a:ext cx="1592280" cy="2530440"/>
            <a:chOff x="2004840" y="3267000"/>
            <a:chExt cx="1592280" cy="2530440"/>
          </a:xfrm>
        </p:grpSpPr>
        <p:pic>
          <p:nvPicPr>
            <p:cNvPr id="100" name="Rectangle 11" descr=""/>
            <p:cNvPicPr/>
            <p:nvPr/>
          </p:nvPicPr>
          <p:blipFill>
            <a:blip r:embed="rId2"/>
            <a:stretch/>
          </p:blipFill>
          <p:spPr>
            <a:xfrm>
              <a:off x="2004840" y="3267000"/>
              <a:ext cx="1592280" cy="253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2013120" y="3270240"/>
              <a:ext cx="1574640" cy="252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Rectangle 15"/>
          <p:cNvGrpSpPr/>
          <p:nvPr/>
        </p:nvGrpSpPr>
        <p:grpSpPr>
          <a:xfrm>
            <a:off x="3614760" y="3255840"/>
            <a:ext cx="1822320" cy="2541600"/>
            <a:chOff x="3614760" y="3255840"/>
            <a:chExt cx="1822320" cy="2541600"/>
          </a:xfrm>
        </p:grpSpPr>
        <p:pic>
          <p:nvPicPr>
            <p:cNvPr id="103" name="Rectangle 15" descr=""/>
            <p:cNvPicPr/>
            <p:nvPr/>
          </p:nvPicPr>
          <p:blipFill>
            <a:blip r:embed="rId3"/>
            <a:stretch/>
          </p:blipFill>
          <p:spPr>
            <a:xfrm>
              <a:off x="3614760" y="3255840"/>
              <a:ext cx="1822320" cy="254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3619440" y="3260880"/>
              <a:ext cx="1809720" cy="25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20"/>
          <p:cNvGrpSpPr/>
          <p:nvPr/>
        </p:nvGrpSpPr>
        <p:grpSpPr>
          <a:xfrm>
            <a:off x="5462640" y="3260880"/>
            <a:ext cx="1590480" cy="2536560"/>
            <a:chOff x="5462640" y="3260880"/>
            <a:chExt cx="1590480" cy="2536560"/>
          </a:xfrm>
        </p:grpSpPr>
        <p:pic>
          <p:nvPicPr>
            <p:cNvPr id="106" name="Rectangle 20" descr=""/>
            <p:cNvPicPr/>
            <p:nvPr/>
          </p:nvPicPr>
          <p:blipFill>
            <a:blip r:embed="rId4"/>
            <a:stretch/>
          </p:blipFill>
          <p:spPr>
            <a:xfrm>
              <a:off x="5462640" y="3260880"/>
              <a:ext cx="1590480" cy="25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5470560" y="3268800"/>
              <a:ext cx="1574640" cy="252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Rectangle 23"/>
          <p:cNvGrpSpPr/>
          <p:nvPr/>
        </p:nvGrpSpPr>
        <p:grpSpPr>
          <a:xfrm>
            <a:off x="7120080" y="3260880"/>
            <a:ext cx="1822320" cy="2457360"/>
            <a:chOff x="7120080" y="3260880"/>
            <a:chExt cx="1822320" cy="2457360"/>
          </a:xfrm>
        </p:grpSpPr>
        <p:pic>
          <p:nvPicPr>
            <p:cNvPr id="109" name="Rectangle 23" descr=""/>
            <p:cNvPicPr/>
            <p:nvPr/>
          </p:nvPicPr>
          <p:blipFill>
            <a:blip r:embed="rId5"/>
            <a:stretch/>
          </p:blipFill>
          <p:spPr>
            <a:xfrm>
              <a:off x="7120080" y="3260880"/>
              <a:ext cx="182232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7128000" y="3268800"/>
              <a:ext cx="1809720" cy="24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Slide Number Placeholder 3"/>
          <p:cNvSpPr/>
          <p:nvPr/>
        </p:nvSpPr>
        <p:spPr>
          <a:xfrm>
            <a:off x="7543800" y="6645240"/>
            <a:ext cx="13716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Page </a:t>
            </a:r>
            <a:fld id="{CCB29069-C3BA-41D5-B4EF-799B16B6C1EA}" type="slidenum">
              <a:rPr b="1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32"/>
          <p:cNvSpPr/>
          <p:nvPr/>
        </p:nvSpPr>
        <p:spPr>
          <a:xfrm>
            <a:off x="158760" y="762120"/>
            <a:ext cx="8705880" cy="1050840"/>
          </a:xfrm>
          <a:prstGeom prst="flowChartAlternate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390960" y="3425760"/>
            <a:ext cx="144108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00"/>
                </a:solidFill>
                <a:latin typeface="Agilent TT Cond"/>
              </a:rPr>
              <a:t>2chn 100MHz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00"/>
                </a:solidFill>
                <a:latin typeface="Agilent TT Cond"/>
              </a:rPr>
              <a:t>8-bit, 500MSa/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00"/>
                </a:solidFill>
                <a:latin typeface="Agilent TT Cond"/>
              </a:rPr>
              <a:t>(U2701A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353160" y="4260960"/>
            <a:ext cx="149112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00"/>
                </a:solidFill>
                <a:latin typeface="Agilent TT Cond"/>
              </a:rPr>
              <a:t>2chn 200MHz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00"/>
                </a:solidFill>
                <a:latin typeface="Agilent TT Cond"/>
              </a:rPr>
              <a:t>8-bit, 500MSa/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00"/>
                </a:solidFill>
                <a:latin typeface="Agilent TT Cond"/>
              </a:rPr>
              <a:t>(U2702A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AutoShape 8"/>
          <p:cNvGrpSpPr/>
          <p:nvPr/>
        </p:nvGrpSpPr>
        <p:grpSpPr>
          <a:xfrm>
            <a:off x="133200" y="1914480"/>
            <a:ext cx="1841760" cy="1316160"/>
            <a:chOff x="133200" y="1914480"/>
            <a:chExt cx="1841760" cy="1316160"/>
          </a:xfrm>
        </p:grpSpPr>
        <p:pic>
          <p:nvPicPr>
            <p:cNvPr id="116" name="AutoShape 8" descr=""/>
            <p:cNvPicPr/>
            <p:nvPr/>
          </p:nvPicPr>
          <p:blipFill>
            <a:blip r:embed="rId6"/>
            <a:stretch/>
          </p:blipFill>
          <p:spPr>
            <a:xfrm>
              <a:off x="133200" y="1914480"/>
              <a:ext cx="1841760" cy="131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204840" y="1981080"/>
              <a:ext cx="1698480" cy="11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Text Box 9"/>
          <p:cNvSpPr/>
          <p:nvPr/>
        </p:nvSpPr>
        <p:spPr>
          <a:xfrm>
            <a:off x="201600" y="1952640"/>
            <a:ext cx="1770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gilent TT Cond"/>
              </a:rPr>
              <a:t>Oscilloscope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gilent TT Cond"/>
              </a:rPr>
              <a:t> (2 mode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AutoShape 10"/>
          <p:cNvGrpSpPr/>
          <p:nvPr/>
        </p:nvGrpSpPr>
        <p:grpSpPr>
          <a:xfrm>
            <a:off x="1994040" y="1901880"/>
            <a:ext cx="1603080" cy="1317600"/>
            <a:chOff x="1994040" y="1901880"/>
            <a:chExt cx="1603080" cy="1317600"/>
          </a:xfrm>
        </p:grpSpPr>
        <p:pic>
          <p:nvPicPr>
            <p:cNvPr id="120" name="AutoShape 10" descr=""/>
            <p:cNvPicPr/>
            <p:nvPr/>
          </p:nvPicPr>
          <p:blipFill>
            <a:blip r:embed="rId7"/>
            <a:stretch/>
          </p:blipFill>
          <p:spPr>
            <a:xfrm>
              <a:off x="1994040" y="1901880"/>
              <a:ext cx="16030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2065320" y="1968480"/>
              <a:ext cx="1461960" cy="11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AutoShape 12"/>
          <p:cNvSpPr/>
          <p:nvPr/>
        </p:nvSpPr>
        <p:spPr>
          <a:xfrm>
            <a:off x="385920" y="3370320"/>
            <a:ext cx="1396800" cy="7621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2075040" y="2030400"/>
            <a:ext cx="14540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gilent TT Cond"/>
              </a:rPr>
              <a:t>Power 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gilent TT Cond"/>
              </a:rPr>
              <a:t>(1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2016000" y="3430440"/>
            <a:ext cx="157824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d4d4d"/>
                </a:solidFill>
                <a:latin typeface="Agilent TT Cond"/>
              </a:rPr>
              <a:t>3chn 20V/120m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d4d4d"/>
                </a:solidFill>
                <a:latin typeface="Agilent TT Cond"/>
              </a:rPr>
              <a:t>1uA/100pA r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d4d4d"/>
                </a:solidFill>
                <a:latin typeface="Agilent TT Cond"/>
              </a:rPr>
              <a:t>(U2722A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AutoShape 16"/>
          <p:cNvGrpSpPr/>
          <p:nvPr/>
        </p:nvGrpSpPr>
        <p:grpSpPr>
          <a:xfrm>
            <a:off x="3614760" y="1908000"/>
            <a:ext cx="1835280" cy="1316160"/>
            <a:chOff x="3614760" y="1908000"/>
            <a:chExt cx="1835280" cy="1316160"/>
          </a:xfrm>
        </p:grpSpPr>
        <p:pic>
          <p:nvPicPr>
            <p:cNvPr id="126" name="AutoShape 16" descr=""/>
            <p:cNvPicPr/>
            <p:nvPr/>
          </p:nvPicPr>
          <p:blipFill>
            <a:blip r:embed="rId8"/>
            <a:stretch/>
          </p:blipFill>
          <p:spPr>
            <a:xfrm>
              <a:off x="3614760" y="1908000"/>
              <a:ext cx="1835280" cy="131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3683160" y="1974960"/>
              <a:ext cx="1698480" cy="11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 Box 17"/>
          <p:cNvSpPr/>
          <p:nvPr/>
        </p:nvSpPr>
        <p:spPr>
          <a:xfrm>
            <a:off x="3670200" y="1984320"/>
            <a:ext cx="16430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gilent TT Cond"/>
              </a:rPr>
              <a:t>Digital Multi me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gilent TT Cond"/>
              </a:rPr>
              <a:t>(1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8"/>
          <p:cNvSpPr/>
          <p:nvPr/>
        </p:nvSpPr>
        <p:spPr>
          <a:xfrm>
            <a:off x="4079160" y="3429000"/>
            <a:ext cx="89388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d4d4d"/>
                </a:solidFill>
                <a:latin typeface="Agilent TT Cond"/>
              </a:rPr>
              <a:t>5.5 digits</a:t>
            </a:r>
            <a:br>
              <a:rPr sz="1500"/>
            </a:br>
            <a:r>
              <a:rPr b="1" lang="en-US" sz="1500" spc="-1" strike="noStrike">
                <a:solidFill>
                  <a:srgbClr val="4d4d4d"/>
                </a:solidFill>
                <a:latin typeface="Agilent TT Cond"/>
              </a:rPr>
              <a:t>100Sa/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d4d4d"/>
                </a:solidFill>
                <a:latin typeface="Agilent TT Cond"/>
              </a:rPr>
              <a:t>(U2741A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AutoShape 19"/>
          <p:cNvGrpSpPr/>
          <p:nvPr/>
        </p:nvGrpSpPr>
        <p:grpSpPr>
          <a:xfrm>
            <a:off x="5467320" y="1914480"/>
            <a:ext cx="1598760" cy="1292400"/>
            <a:chOff x="5467320" y="1914480"/>
            <a:chExt cx="1598760" cy="1292400"/>
          </a:xfrm>
        </p:grpSpPr>
        <p:pic>
          <p:nvPicPr>
            <p:cNvPr id="131" name="AutoShape 19" descr=""/>
            <p:cNvPicPr/>
            <p:nvPr/>
          </p:nvPicPr>
          <p:blipFill>
            <a:blip r:embed="rId9"/>
            <a:stretch/>
          </p:blipFill>
          <p:spPr>
            <a:xfrm>
              <a:off x="5467320" y="1914480"/>
              <a:ext cx="1598760" cy="129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5533920" y="1984320"/>
              <a:ext cx="1465200" cy="11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Text Box 21"/>
          <p:cNvSpPr/>
          <p:nvPr/>
        </p:nvSpPr>
        <p:spPr>
          <a:xfrm>
            <a:off x="5545080" y="2023920"/>
            <a:ext cx="14540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gilent TT Cond"/>
              </a:rPr>
              <a:t>Sw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gilent TT Cond"/>
              </a:rPr>
              <a:t>(1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2"/>
          <p:cNvSpPr/>
          <p:nvPr/>
        </p:nvSpPr>
        <p:spPr>
          <a:xfrm>
            <a:off x="5566680" y="3400560"/>
            <a:ext cx="136152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d4d4d"/>
                </a:solidFill>
                <a:latin typeface="Agilent TT Cond"/>
              </a:rPr>
              <a:t>32chn</a:t>
            </a:r>
            <a:br>
              <a:rPr sz="1500"/>
            </a:br>
            <a:r>
              <a:rPr b="1" lang="en-US" sz="1500" spc="-1" strike="noStrike">
                <a:solidFill>
                  <a:srgbClr val="4d4d4d"/>
                </a:solidFill>
                <a:latin typeface="Agilent TT Cond"/>
              </a:rPr>
              <a:t> switch matr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d4d4d"/>
                </a:solidFill>
                <a:latin typeface="Agilent TT Cond"/>
              </a:rPr>
              <a:t>(U2751A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AutoShape 24"/>
          <p:cNvGrpSpPr/>
          <p:nvPr/>
        </p:nvGrpSpPr>
        <p:grpSpPr>
          <a:xfrm>
            <a:off x="7083360" y="1901880"/>
            <a:ext cx="1841400" cy="1317600"/>
            <a:chOff x="7083360" y="1901880"/>
            <a:chExt cx="1841400" cy="1317600"/>
          </a:xfrm>
        </p:grpSpPr>
        <p:pic>
          <p:nvPicPr>
            <p:cNvPr id="136" name="AutoShape 24" descr=""/>
            <p:cNvPicPr/>
            <p:nvPr/>
          </p:nvPicPr>
          <p:blipFill>
            <a:blip r:embed="rId10"/>
            <a:stretch/>
          </p:blipFill>
          <p:spPr>
            <a:xfrm>
              <a:off x="7083360" y="1901880"/>
              <a:ext cx="184140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7153200" y="1968480"/>
              <a:ext cx="1698840" cy="11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Text Box 25"/>
          <p:cNvSpPr/>
          <p:nvPr/>
        </p:nvSpPr>
        <p:spPr>
          <a:xfrm>
            <a:off x="7140600" y="1984320"/>
            <a:ext cx="1643040" cy="7304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gilent TT Cond"/>
              </a:rPr>
              <a:t>Function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gilent TT Cond"/>
              </a:rPr>
              <a:t>(1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6"/>
          <p:cNvSpPr/>
          <p:nvPr/>
        </p:nvSpPr>
        <p:spPr>
          <a:xfrm>
            <a:off x="7275960" y="3406680"/>
            <a:ext cx="144108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d4d4d"/>
                </a:solidFill>
                <a:latin typeface="Agilent TT Cond"/>
              </a:rPr>
              <a:t>20Mhz FG with </a:t>
            </a:r>
            <a:br>
              <a:rPr sz="1500"/>
            </a:br>
            <a:r>
              <a:rPr b="1" lang="en-US" sz="1500" spc="-1" strike="noStrike">
                <a:solidFill>
                  <a:srgbClr val="4d4d4d"/>
                </a:solidFill>
                <a:latin typeface="Agilent TT Cond"/>
              </a:rPr>
              <a:t>14-bit 50MS/s </a:t>
            </a:r>
            <a:br>
              <a:rPr sz="1500"/>
            </a:br>
            <a:r>
              <a:rPr b="1" lang="en-US" sz="1500" spc="-1" strike="noStrike">
                <a:solidFill>
                  <a:srgbClr val="4d4d4d"/>
                </a:solidFill>
                <a:latin typeface="Agilent TT Cond"/>
              </a:rPr>
              <a:t>64k AW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d4d4d"/>
                </a:solidFill>
                <a:latin typeface="Agilent TT Cond"/>
              </a:rPr>
              <a:t>(U2761A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27"/>
          <p:cNvSpPr/>
          <p:nvPr/>
        </p:nvSpPr>
        <p:spPr>
          <a:xfrm>
            <a:off x="395280" y="4192560"/>
            <a:ext cx="1397160" cy="7621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28"/>
          <p:cNvSpPr/>
          <p:nvPr/>
        </p:nvSpPr>
        <p:spPr>
          <a:xfrm>
            <a:off x="2101680" y="3354480"/>
            <a:ext cx="1397160" cy="76176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29"/>
          <p:cNvSpPr/>
          <p:nvPr/>
        </p:nvSpPr>
        <p:spPr>
          <a:xfrm>
            <a:off x="3841920" y="3348000"/>
            <a:ext cx="1396800" cy="7621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30"/>
          <p:cNvSpPr/>
          <p:nvPr/>
        </p:nvSpPr>
        <p:spPr>
          <a:xfrm>
            <a:off x="5565600" y="3341520"/>
            <a:ext cx="1397160" cy="7621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31"/>
          <p:cNvSpPr/>
          <p:nvPr/>
        </p:nvSpPr>
        <p:spPr>
          <a:xfrm>
            <a:off x="7147080" y="3351240"/>
            <a:ext cx="1685880" cy="96048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33" descr=""/>
          <p:cNvPicPr/>
          <p:nvPr/>
        </p:nvPicPr>
        <p:blipFill>
          <a:blip r:embed="rId11"/>
          <a:stretch/>
        </p:blipFill>
        <p:spPr>
          <a:xfrm>
            <a:off x="1657440" y="777960"/>
            <a:ext cx="2404800" cy="10792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4"/>
          <p:cNvSpPr/>
          <p:nvPr/>
        </p:nvSpPr>
        <p:spPr>
          <a:xfrm>
            <a:off x="249120" y="871560"/>
            <a:ext cx="1770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Chass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gilent TT Cond"/>
              </a:rPr>
              <a:t> (1 mode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35"/>
          <p:cNvSpPr/>
          <p:nvPr/>
        </p:nvSpPr>
        <p:spPr>
          <a:xfrm>
            <a:off x="4111560" y="915840"/>
            <a:ext cx="1397160" cy="7621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6"/>
          <p:cNvSpPr/>
          <p:nvPr/>
        </p:nvSpPr>
        <p:spPr>
          <a:xfrm>
            <a:off x="4345920" y="1022400"/>
            <a:ext cx="89388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gilent TT Cond"/>
              </a:rPr>
              <a:t>6 slot 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gilent TT Cond"/>
              </a:rPr>
              <a:t>chass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gilent TT Cond"/>
              </a:rPr>
              <a:t>(U2781A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8640" y="7632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2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Arial"/>
              </a:rPr>
              <a:t>USB Modular Instruments Products</a:t>
            </a:r>
            <a:br>
              <a:rPr sz="2400"/>
            </a:br>
            <a:r>
              <a:rPr b="1" lang="en-US" sz="1900" spc="-1" strike="noStrike">
                <a:solidFill>
                  <a:srgbClr val="0099cc"/>
                </a:solidFill>
                <a:latin typeface="Arial"/>
              </a:rPr>
              <a:t>U2700A series Agilent USB Modular Instruments and chassis (7 models)</a:t>
            </a:r>
            <a:br>
              <a:rPr sz="1900"/>
            </a:br>
            <a:endParaRPr b="1" lang="en-US" sz="19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50" name="Text Box 44"/>
          <p:cNvSpPr/>
          <p:nvPr/>
        </p:nvSpPr>
        <p:spPr>
          <a:xfrm>
            <a:off x="139680" y="5832360"/>
            <a:ext cx="8755200" cy="581040"/>
          </a:xfrm>
          <a:prstGeom prst="rect">
            <a:avLst/>
          </a:prstGeom>
          <a:solidFill>
            <a:srgbClr val="ffffc5"/>
          </a:solidFill>
          <a:ln w="1260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Wingdings"/>
                <a:ea typeface="Wingdings"/>
              </a:rPr>
              <a:t></a:t>
            </a: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venient [ Work in comfort ]   </a:t>
            </a:r>
            <a:r>
              <a:rPr b="1" lang="en-US" sz="1200" spc="-1" strike="noStrike">
                <a:solidFill>
                  <a:srgbClr val="ff3300"/>
                </a:solidFill>
                <a:latin typeface="Wingdings"/>
                <a:ea typeface="Wingdings"/>
              </a:rPr>
              <a:t>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Portable [ Carry your instruments with you ]  </a:t>
            </a:r>
            <a:r>
              <a:rPr b="1" lang="en-US" sz="1200" spc="-1" strike="noStrike">
                <a:solidFill>
                  <a:srgbClr val="ff3300"/>
                </a:solidFill>
                <a:latin typeface="Wingdings"/>
                <a:ea typeface="Wingdings"/>
              </a:rPr>
              <a:t>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mple Setup [ Improve Efficiency ]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Wingdings"/>
                <a:ea typeface="Wingdings"/>
              </a:rPr>
              <a:t>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ffordable [ Low start up cost 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4" descr="C:\Pictures\Disc1\Jpeg Lowres\DSCF0054.jpg"/>
          <p:cNvPicPr/>
          <p:nvPr/>
        </p:nvPicPr>
        <p:blipFill>
          <a:blip r:embed="rId12"/>
          <a:stretch/>
        </p:blipFill>
        <p:spPr>
          <a:xfrm>
            <a:off x="279360" y="2247840"/>
            <a:ext cx="1612800" cy="10796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</p:pic>
      <p:pic>
        <p:nvPicPr>
          <p:cNvPr id="152" name="Picture 65" descr="C:\Pictures\Disc1\Jpeg Lowres\DSCF0058.jpg"/>
          <p:cNvPicPr/>
          <p:nvPr/>
        </p:nvPicPr>
        <p:blipFill>
          <a:blip r:embed="rId13"/>
          <a:stretch/>
        </p:blipFill>
        <p:spPr>
          <a:xfrm>
            <a:off x="2197080" y="2397240"/>
            <a:ext cx="1473120" cy="9856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5" descr="C:\Pictures\Disc1\Jpeg Lowres\DSCF0058.jpg"/>
          <p:cNvPicPr/>
          <p:nvPr/>
        </p:nvPicPr>
        <p:blipFill>
          <a:blip r:embed="rId14"/>
          <a:stretch/>
        </p:blipFill>
        <p:spPr>
          <a:xfrm>
            <a:off x="5537160" y="2359080"/>
            <a:ext cx="1473120" cy="9856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5" descr="C:\Pictures\Disc1\Jpeg Lowres\DSCF0058.jpg"/>
          <p:cNvPicPr/>
          <p:nvPr/>
        </p:nvPicPr>
        <p:blipFill>
          <a:blip r:embed="rId15"/>
          <a:stretch/>
        </p:blipFill>
        <p:spPr>
          <a:xfrm>
            <a:off x="7315200" y="2359080"/>
            <a:ext cx="1473120" cy="9856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5" descr="C:\Pictures\Disc1\Jpeg Lowres\DSCF0058.jpg"/>
          <p:cNvPicPr/>
          <p:nvPr/>
        </p:nvPicPr>
        <p:blipFill>
          <a:blip r:embed="rId16"/>
          <a:stretch/>
        </p:blipFill>
        <p:spPr>
          <a:xfrm>
            <a:off x="3860640" y="2349360"/>
            <a:ext cx="1473480" cy="9781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110"/>
          <p:cNvSpPr/>
          <p:nvPr/>
        </p:nvSpPr>
        <p:spPr>
          <a:xfrm>
            <a:off x="190440" y="2994120"/>
            <a:ext cx="787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3300"/>
                </a:solidFill>
                <a:latin typeface="Wingdings"/>
                <a:ea typeface="Wingdings"/>
              </a:rPr>
              <a:t>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al Pla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10"/>
          <p:cNvSpPr/>
          <p:nvPr/>
        </p:nvSpPr>
        <p:spPr>
          <a:xfrm>
            <a:off x="2070000" y="2968560"/>
            <a:ext cx="78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3300"/>
                </a:solidFill>
                <a:latin typeface="Wingdings"/>
                <a:ea typeface="Wingdings"/>
              </a:rPr>
              <a:t>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al Pla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10"/>
          <p:cNvSpPr/>
          <p:nvPr/>
        </p:nvSpPr>
        <p:spPr>
          <a:xfrm>
            <a:off x="3708360" y="2994120"/>
            <a:ext cx="787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3300"/>
                </a:solidFill>
                <a:latin typeface="Wingdings"/>
                <a:ea typeface="Wingdings"/>
              </a:rPr>
              <a:t>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al Pla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10"/>
          <p:cNvSpPr/>
          <p:nvPr/>
        </p:nvSpPr>
        <p:spPr>
          <a:xfrm>
            <a:off x="5511960" y="2968560"/>
            <a:ext cx="787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3300"/>
                </a:solidFill>
                <a:latin typeface="Wingdings"/>
                <a:ea typeface="Wingdings"/>
              </a:rPr>
              <a:t>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al Pla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10"/>
          <p:cNvSpPr/>
          <p:nvPr/>
        </p:nvSpPr>
        <p:spPr>
          <a:xfrm>
            <a:off x="7162920" y="2981160"/>
            <a:ext cx="787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3300"/>
                </a:solidFill>
                <a:latin typeface="Wingdings"/>
                <a:ea typeface="Wingdings"/>
              </a:rPr>
              <a:t>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al Pla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1" descr=""/>
          <p:cNvPicPr/>
          <p:nvPr/>
        </p:nvPicPr>
        <p:blipFill>
          <a:blip r:embed="rId17"/>
          <a:stretch/>
        </p:blipFill>
        <p:spPr>
          <a:xfrm>
            <a:off x="2209680" y="4213080"/>
            <a:ext cx="1143000" cy="76068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28"/>
          <p:cNvSpPr/>
          <p:nvPr/>
        </p:nvSpPr>
        <p:spPr>
          <a:xfrm>
            <a:off x="2133720" y="5029200"/>
            <a:ext cx="1396800" cy="7621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4"/>
          <p:cNvSpPr/>
          <p:nvPr/>
        </p:nvSpPr>
        <p:spPr>
          <a:xfrm>
            <a:off x="2058840" y="5105520"/>
            <a:ext cx="156420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d4d4d"/>
                </a:solidFill>
                <a:latin typeface="Agilent TT Cond"/>
              </a:rPr>
              <a:t>Parametric Test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d4d4d"/>
                </a:solidFill>
                <a:latin typeface="Agilent TT Cond"/>
              </a:rPr>
              <a:t>Fixtu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d4d4d"/>
                </a:solidFill>
                <a:latin typeface="Agilent TT Cond"/>
              </a:rPr>
              <a:t>(U2941A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266760" y="6651720"/>
            <a:ext cx="6141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Page </a:t>
            </a:r>
            <a:fld id="{DC618B54-067F-4F5B-85CF-707C2F1F91BD}" type="slidenum">
              <a:rPr b="1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Rectangle 103"/>
          <p:cNvGrpSpPr/>
          <p:nvPr/>
        </p:nvGrpSpPr>
        <p:grpSpPr>
          <a:xfrm>
            <a:off x="7400880" y="2938320"/>
            <a:ext cx="1609920" cy="2719440"/>
            <a:chOff x="7400880" y="2938320"/>
            <a:chExt cx="1609920" cy="2719440"/>
          </a:xfrm>
        </p:grpSpPr>
        <p:pic>
          <p:nvPicPr>
            <p:cNvPr id="166" name="Rectangle 103" descr=""/>
            <p:cNvPicPr/>
            <p:nvPr/>
          </p:nvPicPr>
          <p:blipFill>
            <a:blip r:embed="rId1"/>
            <a:stretch/>
          </p:blipFill>
          <p:spPr>
            <a:xfrm>
              <a:off x="7400880" y="2938320"/>
              <a:ext cx="1609920" cy="27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7404120" y="2946240"/>
              <a:ext cx="1600200" cy="270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Rectangle 102"/>
          <p:cNvGrpSpPr/>
          <p:nvPr/>
        </p:nvGrpSpPr>
        <p:grpSpPr>
          <a:xfrm>
            <a:off x="5479920" y="2938320"/>
            <a:ext cx="1841760" cy="2719440"/>
            <a:chOff x="5479920" y="2938320"/>
            <a:chExt cx="1841760" cy="2719440"/>
          </a:xfrm>
        </p:grpSpPr>
        <p:pic>
          <p:nvPicPr>
            <p:cNvPr id="169" name="Rectangle 102" descr=""/>
            <p:cNvPicPr/>
            <p:nvPr/>
          </p:nvPicPr>
          <p:blipFill>
            <a:blip r:embed="rId2"/>
            <a:stretch/>
          </p:blipFill>
          <p:spPr>
            <a:xfrm>
              <a:off x="5479920" y="2938320"/>
              <a:ext cx="1841760" cy="27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5486400" y="2946240"/>
              <a:ext cx="1828800" cy="270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Rectangle 101"/>
          <p:cNvGrpSpPr/>
          <p:nvPr/>
        </p:nvGrpSpPr>
        <p:grpSpPr>
          <a:xfrm>
            <a:off x="3816360" y="2938320"/>
            <a:ext cx="1614600" cy="2719440"/>
            <a:chOff x="3816360" y="2938320"/>
            <a:chExt cx="1614600" cy="2719440"/>
          </a:xfrm>
        </p:grpSpPr>
        <p:pic>
          <p:nvPicPr>
            <p:cNvPr id="172" name="Rectangle 101" descr=""/>
            <p:cNvPicPr/>
            <p:nvPr/>
          </p:nvPicPr>
          <p:blipFill>
            <a:blip r:embed="rId3"/>
            <a:stretch/>
          </p:blipFill>
          <p:spPr>
            <a:xfrm>
              <a:off x="3816360" y="2938320"/>
              <a:ext cx="1614600" cy="27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3822840" y="2946240"/>
              <a:ext cx="1600200" cy="270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Rectangle 100"/>
          <p:cNvGrpSpPr/>
          <p:nvPr/>
        </p:nvGrpSpPr>
        <p:grpSpPr>
          <a:xfrm>
            <a:off x="2139840" y="2938320"/>
            <a:ext cx="1614600" cy="2719440"/>
            <a:chOff x="2139840" y="2938320"/>
            <a:chExt cx="1614600" cy="2719440"/>
          </a:xfrm>
        </p:grpSpPr>
        <p:pic>
          <p:nvPicPr>
            <p:cNvPr id="175" name="Rectangle 100" descr=""/>
            <p:cNvPicPr/>
            <p:nvPr/>
          </p:nvPicPr>
          <p:blipFill>
            <a:blip r:embed="rId4"/>
            <a:stretch/>
          </p:blipFill>
          <p:spPr>
            <a:xfrm>
              <a:off x="2139840" y="2938320"/>
              <a:ext cx="1614600" cy="27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2146320" y="2946240"/>
              <a:ext cx="1600200" cy="270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Rectangle 99"/>
          <p:cNvGrpSpPr/>
          <p:nvPr/>
        </p:nvGrpSpPr>
        <p:grpSpPr>
          <a:xfrm>
            <a:off x="133200" y="2938320"/>
            <a:ext cx="1944720" cy="2719440"/>
            <a:chOff x="133200" y="2938320"/>
            <a:chExt cx="1944720" cy="2719440"/>
          </a:xfrm>
        </p:grpSpPr>
        <p:pic>
          <p:nvPicPr>
            <p:cNvPr id="178" name="Rectangle 99" descr=""/>
            <p:cNvPicPr/>
            <p:nvPr/>
          </p:nvPicPr>
          <p:blipFill>
            <a:blip r:embed="rId5"/>
            <a:stretch/>
          </p:blipFill>
          <p:spPr>
            <a:xfrm>
              <a:off x="133200" y="2938320"/>
              <a:ext cx="1944720" cy="27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139680" y="2946240"/>
              <a:ext cx="1930320" cy="270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Picture 55" descr="48_u2800_mercury"/>
          <p:cNvPicPr/>
          <p:nvPr/>
        </p:nvPicPr>
        <p:blipFill>
          <a:blip r:embed="rId6"/>
          <a:stretch/>
        </p:blipFill>
        <p:spPr>
          <a:xfrm>
            <a:off x="7518240" y="905040"/>
            <a:ext cx="1347840" cy="127476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3440" y="201240"/>
            <a:ext cx="8298000" cy="7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gilent TT Cond"/>
              </a:rPr>
              <a:t>Agilent USB Modular DAQ Products</a:t>
            </a:r>
            <a:br>
              <a:rPr sz="2800"/>
            </a:br>
            <a:r>
              <a:rPr b="1" lang="en-US" sz="2000" spc="-1" strike="noStrike">
                <a:solidFill>
                  <a:srgbClr val="0099cc"/>
                </a:solidFill>
                <a:latin typeface="Agilent TT Cond"/>
              </a:rPr>
              <a:t>Modular Data Acquisition (18 models)</a:t>
            </a:r>
            <a:endParaRPr b="1" lang="en-US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4707000" y="1084320"/>
            <a:ext cx="47628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gilent TT Cond"/>
              </a:rPr>
              <a:t>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726240" y="1084320"/>
            <a:ext cx="47628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gilent TT Cond"/>
              </a:rPr>
              <a:t>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5"/>
          <p:cNvSpPr/>
          <p:nvPr/>
        </p:nvSpPr>
        <p:spPr>
          <a:xfrm>
            <a:off x="139680" y="1015920"/>
            <a:ext cx="1930320" cy="105408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6"/>
          <p:cNvSpPr/>
          <p:nvPr/>
        </p:nvSpPr>
        <p:spPr>
          <a:xfrm>
            <a:off x="2158920" y="1015920"/>
            <a:ext cx="1587600" cy="105408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7"/>
          <p:cNvSpPr/>
          <p:nvPr/>
        </p:nvSpPr>
        <p:spPr>
          <a:xfrm>
            <a:off x="3822840" y="1028880"/>
            <a:ext cx="1587240" cy="105408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8"/>
          <p:cNvSpPr/>
          <p:nvPr/>
        </p:nvSpPr>
        <p:spPr>
          <a:xfrm>
            <a:off x="5486400" y="1015920"/>
            <a:ext cx="1828800" cy="105408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9"/>
          <p:cNvSpPr/>
          <p:nvPr/>
        </p:nvSpPr>
        <p:spPr>
          <a:xfrm>
            <a:off x="7391520" y="1015920"/>
            <a:ext cx="1587240" cy="105408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AutoShape 35"/>
          <p:cNvGrpSpPr/>
          <p:nvPr/>
        </p:nvGrpSpPr>
        <p:grpSpPr>
          <a:xfrm>
            <a:off x="7400880" y="2127240"/>
            <a:ext cx="1596960" cy="798480"/>
            <a:chOff x="7400880" y="2127240"/>
            <a:chExt cx="1596960" cy="798480"/>
          </a:xfrm>
        </p:grpSpPr>
        <p:pic>
          <p:nvPicPr>
            <p:cNvPr id="190" name="AutoShape 35" descr=""/>
            <p:cNvPicPr/>
            <p:nvPr/>
          </p:nvPicPr>
          <p:blipFill>
            <a:blip r:embed="rId7"/>
            <a:stretch/>
          </p:blipFill>
          <p:spPr>
            <a:xfrm>
              <a:off x="7400880" y="2127240"/>
              <a:ext cx="159696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7442280" y="2171880"/>
              <a:ext cx="151128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AutoShape 36"/>
          <p:cNvGrpSpPr/>
          <p:nvPr/>
        </p:nvGrpSpPr>
        <p:grpSpPr>
          <a:xfrm>
            <a:off x="5479920" y="2127240"/>
            <a:ext cx="1841760" cy="798480"/>
            <a:chOff x="5479920" y="2127240"/>
            <a:chExt cx="1841760" cy="798480"/>
          </a:xfrm>
        </p:grpSpPr>
        <p:pic>
          <p:nvPicPr>
            <p:cNvPr id="193" name="AutoShape 36" descr=""/>
            <p:cNvPicPr/>
            <p:nvPr/>
          </p:nvPicPr>
          <p:blipFill>
            <a:blip r:embed="rId8"/>
            <a:stretch/>
          </p:blipFill>
          <p:spPr>
            <a:xfrm>
              <a:off x="5479920" y="2127240"/>
              <a:ext cx="184176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5524560" y="2171880"/>
              <a:ext cx="175248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AutoShape 37"/>
          <p:cNvGrpSpPr/>
          <p:nvPr/>
        </p:nvGrpSpPr>
        <p:grpSpPr>
          <a:xfrm>
            <a:off x="3816360" y="2127240"/>
            <a:ext cx="1603440" cy="798480"/>
            <a:chOff x="3816360" y="2127240"/>
            <a:chExt cx="1603440" cy="798480"/>
          </a:xfrm>
        </p:grpSpPr>
        <p:pic>
          <p:nvPicPr>
            <p:cNvPr id="196" name="AutoShape 37" descr=""/>
            <p:cNvPicPr/>
            <p:nvPr/>
          </p:nvPicPr>
          <p:blipFill>
            <a:blip r:embed="rId9"/>
            <a:stretch/>
          </p:blipFill>
          <p:spPr>
            <a:xfrm>
              <a:off x="3816360" y="2127240"/>
              <a:ext cx="160344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3860640" y="2171880"/>
              <a:ext cx="151164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AutoShape 38"/>
          <p:cNvGrpSpPr/>
          <p:nvPr/>
        </p:nvGrpSpPr>
        <p:grpSpPr>
          <a:xfrm>
            <a:off x="2152800" y="2127240"/>
            <a:ext cx="1601640" cy="798480"/>
            <a:chOff x="2152800" y="2127240"/>
            <a:chExt cx="1601640" cy="798480"/>
          </a:xfrm>
        </p:grpSpPr>
        <p:pic>
          <p:nvPicPr>
            <p:cNvPr id="199" name="AutoShape 38" descr=""/>
            <p:cNvPicPr/>
            <p:nvPr/>
          </p:nvPicPr>
          <p:blipFill>
            <a:blip r:embed="rId10"/>
            <a:stretch/>
          </p:blipFill>
          <p:spPr>
            <a:xfrm>
              <a:off x="2152800" y="2127240"/>
              <a:ext cx="160164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2197080" y="2171880"/>
              <a:ext cx="151128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AutoShape 39"/>
          <p:cNvGrpSpPr/>
          <p:nvPr/>
        </p:nvGrpSpPr>
        <p:grpSpPr>
          <a:xfrm>
            <a:off x="128520" y="2127240"/>
            <a:ext cx="1962360" cy="798480"/>
            <a:chOff x="128520" y="2127240"/>
            <a:chExt cx="1962360" cy="798480"/>
          </a:xfrm>
        </p:grpSpPr>
        <p:pic>
          <p:nvPicPr>
            <p:cNvPr id="202" name="AutoShape 39" descr=""/>
            <p:cNvPicPr/>
            <p:nvPr/>
          </p:nvPicPr>
          <p:blipFill>
            <a:blip r:embed="rId11"/>
            <a:stretch/>
          </p:blipFill>
          <p:spPr>
            <a:xfrm>
              <a:off x="128520" y="2127240"/>
              <a:ext cx="196236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169920" y="2171880"/>
              <a:ext cx="187488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Rectangle 40"/>
          <p:cNvSpPr/>
          <p:nvPr/>
        </p:nvSpPr>
        <p:spPr>
          <a:xfrm>
            <a:off x="241200" y="2203560"/>
            <a:ext cx="1773360" cy="492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gilent TT Cond"/>
              </a:rPr>
              <a:t>U2300A Ser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gilent TT Cond"/>
              </a:rPr>
              <a:t>Multifunction DA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Agilent TT Cond"/>
              </a:rPr>
              <a:t> </a:t>
            </a:r>
            <a:r>
              <a:rPr b="1" lang="en-US" sz="1200" spc="-1" strike="noStrike">
                <a:solidFill>
                  <a:srgbClr val="333300"/>
                </a:solidFill>
                <a:latin typeface="Agilent TT Cond"/>
              </a:rPr>
              <a:t>( 7 Models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1"/>
          <p:cNvSpPr/>
          <p:nvPr/>
        </p:nvSpPr>
        <p:spPr>
          <a:xfrm>
            <a:off x="2209680" y="2203560"/>
            <a:ext cx="1443240" cy="492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gilent TT Cond"/>
              </a:rPr>
              <a:t>U2781A – Modular Chas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Agilent TT Cond"/>
              </a:rPr>
              <a:t> </a:t>
            </a:r>
            <a:r>
              <a:rPr b="1" lang="en-US" sz="1200" spc="-1" strike="noStrike">
                <a:solidFill>
                  <a:srgbClr val="333300"/>
                </a:solidFill>
                <a:latin typeface="Agilent TT Cond"/>
              </a:rPr>
              <a:t>( 1 Model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2"/>
          <p:cNvSpPr/>
          <p:nvPr/>
        </p:nvSpPr>
        <p:spPr>
          <a:xfrm>
            <a:off x="3924360" y="2203560"/>
            <a:ext cx="144288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gilent TT Cond"/>
              </a:rPr>
              <a:t>U2500A – Simultane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gilent TT Cond"/>
              </a:rPr>
              <a:t>Sampling DAQ</a:t>
            </a:r>
            <a:br>
              <a:rPr sz="1200"/>
            </a:br>
            <a:r>
              <a:rPr b="1" lang="en-US" sz="1200" spc="-1" strike="noStrike">
                <a:solidFill>
                  <a:srgbClr val="333300"/>
                </a:solidFill>
                <a:latin typeface="Agilent TT Cond"/>
              </a:rPr>
              <a:t> ( 3 Models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3"/>
          <p:cNvSpPr/>
          <p:nvPr/>
        </p:nvSpPr>
        <p:spPr>
          <a:xfrm>
            <a:off x="5537160" y="2203560"/>
            <a:ext cx="1684440" cy="492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gilent TT Cond"/>
              </a:rPr>
              <a:t>U2100A &amp; U2600A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gilent TT Cond"/>
              </a:rPr>
              <a:t>Isolated Digital IO</a:t>
            </a:r>
            <a:br>
              <a:rPr sz="1200"/>
            </a:br>
            <a:r>
              <a:rPr b="1" lang="en-US" sz="1200" spc="-1" strike="noStrike">
                <a:solidFill>
                  <a:srgbClr val="333300"/>
                </a:solidFill>
                <a:latin typeface="Agilent TT Cond"/>
              </a:rPr>
              <a:t>( 6 Models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4"/>
          <p:cNvSpPr/>
          <p:nvPr/>
        </p:nvSpPr>
        <p:spPr>
          <a:xfrm>
            <a:off x="7454880" y="2178000"/>
            <a:ext cx="1442880" cy="492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gilent TT Cond"/>
              </a:rPr>
              <a:t>U2800A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gilent TT Cond"/>
              </a:rPr>
              <a:t>Signal Conditio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ilent TT Cond"/>
              </a:rPr>
              <a:t>(1 mod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0" descr=""/>
          <p:cNvPicPr/>
          <p:nvPr/>
        </p:nvPicPr>
        <p:blipFill>
          <a:blip r:embed="rId12"/>
          <a:stretch/>
        </p:blipFill>
        <p:spPr>
          <a:xfrm>
            <a:off x="563400" y="1305000"/>
            <a:ext cx="1089360" cy="539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1" descr=""/>
          <p:cNvPicPr/>
          <p:nvPr/>
        </p:nvPicPr>
        <p:blipFill>
          <a:blip r:embed="rId13"/>
          <a:stretch/>
        </p:blipFill>
        <p:spPr>
          <a:xfrm>
            <a:off x="2089080" y="876240"/>
            <a:ext cx="1708200" cy="1143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2" descr=""/>
          <p:cNvPicPr/>
          <p:nvPr/>
        </p:nvPicPr>
        <p:blipFill>
          <a:blip r:embed="rId14"/>
          <a:stretch/>
        </p:blipFill>
        <p:spPr>
          <a:xfrm>
            <a:off x="4127400" y="1281240"/>
            <a:ext cx="1000080" cy="495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3" descr=""/>
          <p:cNvPicPr/>
          <p:nvPr/>
        </p:nvPicPr>
        <p:blipFill>
          <a:blip r:embed="rId15"/>
          <a:stretch/>
        </p:blipFill>
        <p:spPr>
          <a:xfrm>
            <a:off x="6408720" y="1382760"/>
            <a:ext cx="812880" cy="4032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4" descr=""/>
          <p:cNvPicPr/>
          <p:nvPr/>
        </p:nvPicPr>
        <p:blipFill>
          <a:blip r:embed="rId16"/>
          <a:stretch/>
        </p:blipFill>
        <p:spPr>
          <a:xfrm>
            <a:off x="5514840" y="1368360"/>
            <a:ext cx="636840" cy="39384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62"/>
          <p:cNvSpPr/>
          <p:nvPr/>
        </p:nvSpPr>
        <p:spPr>
          <a:xfrm>
            <a:off x="167040" y="3075120"/>
            <a:ext cx="9061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U2352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16SE/8DI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16-bit, 250kS/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63"/>
          <p:cNvSpPr/>
          <p:nvPr/>
        </p:nvSpPr>
        <p:spPr>
          <a:xfrm>
            <a:off x="165960" y="3672000"/>
            <a:ext cx="939600" cy="5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U2351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16SE/8DI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16-bit, 250kS/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with 2 A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4"/>
          <p:cNvSpPr/>
          <p:nvPr/>
        </p:nvSpPr>
        <p:spPr>
          <a:xfrm>
            <a:off x="216000" y="4414680"/>
            <a:ext cx="84456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U2354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16SE/8DI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16-bit, 500kS/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5"/>
          <p:cNvSpPr/>
          <p:nvPr/>
        </p:nvSpPr>
        <p:spPr>
          <a:xfrm>
            <a:off x="165960" y="4992840"/>
            <a:ext cx="939600" cy="5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U2353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16SE/8DI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16-bit, 500kS/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with 2 A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66"/>
          <p:cNvSpPr/>
          <p:nvPr/>
        </p:nvSpPr>
        <p:spPr>
          <a:xfrm>
            <a:off x="203040" y="3017880"/>
            <a:ext cx="876600" cy="52056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67"/>
          <p:cNvSpPr/>
          <p:nvPr/>
        </p:nvSpPr>
        <p:spPr>
          <a:xfrm>
            <a:off x="190440" y="3614760"/>
            <a:ext cx="897120" cy="66204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68"/>
          <p:cNvSpPr/>
          <p:nvPr/>
        </p:nvSpPr>
        <p:spPr>
          <a:xfrm>
            <a:off x="190440" y="4338720"/>
            <a:ext cx="881280" cy="52056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69"/>
          <p:cNvSpPr/>
          <p:nvPr/>
        </p:nvSpPr>
        <p:spPr>
          <a:xfrm>
            <a:off x="179280" y="4924440"/>
            <a:ext cx="885960" cy="67464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70"/>
          <p:cNvSpPr/>
          <p:nvPr/>
        </p:nvSpPr>
        <p:spPr>
          <a:xfrm>
            <a:off x="1146600" y="3087720"/>
            <a:ext cx="9061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U2355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64SE/32DI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16-bit, 250kS/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71"/>
          <p:cNvSpPr/>
          <p:nvPr/>
        </p:nvSpPr>
        <p:spPr>
          <a:xfrm>
            <a:off x="1119600" y="3716280"/>
            <a:ext cx="9061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U2356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64SE/32DI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16-bit, 500kS/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72"/>
          <p:cNvSpPr/>
          <p:nvPr/>
        </p:nvSpPr>
        <p:spPr>
          <a:xfrm>
            <a:off x="1184040" y="4408560"/>
            <a:ext cx="8038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U2331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64SE/32DI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12-bit, 3MS/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73"/>
          <p:cNvSpPr/>
          <p:nvPr/>
        </p:nvSpPr>
        <p:spPr>
          <a:xfrm>
            <a:off x="1155600" y="3017880"/>
            <a:ext cx="870120" cy="5335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74"/>
          <p:cNvSpPr/>
          <p:nvPr/>
        </p:nvSpPr>
        <p:spPr>
          <a:xfrm>
            <a:off x="1160640" y="3665520"/>
            <a:ext cx="857160" cy="49536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75"/>
          <p:cNvSpPr/>
          <p:nvPr/>
        </p:nvSpPr>
        <p:spPr>
          <a:xfrm>
            <a:off x="1155600" y="4338720"/>
            <a:ext cx="862200" cy="52236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6"/>
          <p:cNvSpPr/>
          <p:nvPr/>
        </p:nvSpPr>
        <p:spPr>
          <a:xfrm>
            <a:off x="2479680" y="3097080"/>
            <a:ext cx="90180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U2781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6 slots chas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77"/>
          <p:cNvSpPr/>
          <p:nvPr/>
        </p:nvSpPr>
        <p:spPr>
          <a:xfrm>
            <a:off x="2444760" y="3032280"/>
            <a:ext cx="968400" cy="39528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8"/>
          <p:cNvSpPr/>
          <p:nvPr/>
        </p:nvSpPr>
        <p:spPr>
          <a:xfrm>
            <a:off x="4142160" y="3060720"/>
            <a:ext cx="9061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U2541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4 chn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16-bit, 250kS/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9"/>
          <p:cNvSpPr/>
          <p:nvPr/>
        </p:nvSpPr>
        <p:spPr>
          <a:xfrm>
            <a:off x="4185720" y="3666960"/>
            <a:ext cx="9396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U2542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4 chn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16-bit, 500kS/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80"/>
          <p:cNvSpPr/>
          <p:nvPr/>
        </p:nvSpPr>
        <p:spPr>
          <a:xfrm>
            <a:off x="4035600" y="3029040"/>
            <a:ext cx="1134720" cy="48420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81"/>
          <p:cNvSpPr/>
          <p:nvPr/>
        </p:nvSpPr>
        <p:spPr>
          <a:xfrm>
            <a:off x="4029120" y="3619440"/>
            <a:ext cx="1173240" cy="50976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82"/>
          <p:cNvSpPr/>
          <p:nvPr/>
        </p:nvSpPr>
        <p:spPr>
          <a:xfrm>
            <a:off x="4243320" y="4273560"/>
            <a:ext cx="8038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U2531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4 chn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14-bit, 2MS/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83"/>
          <p:cNvSpPr/>
          <p:nvPr/>
        </p:nvSpPr>
        <p:spPr>
          <a:xfrm>
            <a:off x="4071960" y="4229280"/>
            <a:ext cx="1123920" cy="49680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84"/>
          <p:cNvSpPr/>
          <p:nvPr/>
        </p:nvSpPr>
        <p:spPr>
          <a:xfrm>
            <a:off x="5587560" y="3063960"/>
            <a:ext cx="136008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U2121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gilent TT Cond"/>
              </a:rPr>
              <a:t>16 Inputs, 16 Outpu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85"/>
          <p:cNvSpPr/>
          <p:nvPr/>
        </p:nvSpPr>
        <p:spPr>
          <a:xfrm>
            <a:off x="5673600" y="3006720"/>
            <a:ext cx="1171800" cy="3697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86"/>
          <p:cNvSpPr/>
          <p:nvPr/>
        </p:nvSpPr>
        <p:spPr>
          <a:xfrm>
            <a:off x="5635080" y="3511440"/>
            <a:ext cx="59220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U2122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gilent TT Cond"/>
              </a:rPr>
              <a:t>32 Inpu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87"/>
          <p:cNvSpPr/>
          <p:nvPr/>
        </p:nvSpPr>
        <p:spPr>
          <a:xfrm>
            <a:off x="5580000" y="3467160"/>
            <a:ext cx="701640" cy="35856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88"/>
          <p:cNvSpPr/>
          <p:nvPr/>
        </p:nvSpPr>
        <p:spPr>
          <a:xfrm>
            <a:off x="6436440" y="3517920"/>
            <a:ext cx="69876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U2123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gilent TT Cond"/>
              </a:rPr>
              <a:t>32 Outpu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89"/>
          <p:cNvSpPr/>
          <p:nvPr/>
        </p:nvSpPr>
        <p:spPr>
          <a:xfrm>
            <a:off x="6446880" y="3462480"/>
            <a:ext cx="681120" cy="3571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90"/>
          <p:cNvSpPr/>
          <p:nvPr/>
        </p:nvSpPr>
        <p:spPr>
          <a:xfrm>
            <a:off x="5670000" y="3968640"/>
            <a:ext cx="136008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U2651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gilent TT Cond"/>
              </a:rPr>
              <a:t>32 Inputs, 32 Outpu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91"/>
          <p:cNvSpPr/>
          <p:nvPr/>
        </p:nvSpPr>
        <p:spPr>
          <a:xfrm>
            <a:off x="5740560" y="3911760"/>
            <a:ext cx="1201680" cy="3823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92"/>
          <p:cNvSpPr/>
          <p:nvPr/>
        </p:nvSpPr>
        <p:spPr>
          <a:xfrm>
            <a:off x="6041160" y="4417920"/>
            <a:ext cx="59220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2652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gilent TT Cond"/>
              </a:rPr>
              <a:t>64 Inpu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93"/>
          <p:cNvSpPr/>
          <p:nvPr/>
        </p:nvSpPr>
        <p:spPr>
          <a:xfrm>
            <a:off x="5859360" y="4373640"/>
            <a:ext cx="909720" cy="3841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94"/>
          <p:cNvSpPr/>
          <p:nvPr/>
        </p:nvSpPr>
        <p:spPr>
          <a:xfrm>
            <a:off x="5980680" y="4884840"/>
            <a:ext cx="69876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U2653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gilent TT Cond"/>
              </a:rPr>
              <a:t>64 Outpu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95"/>
          <p:cNvSpPr/>
          <p:nvPr/>
        </p:nvSpPr>
        <p:spPr>
          <a:xfrm>
            <a:off x="5851440" y="4815000"/>
            <a:ext cx="935280" cy="39528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96"/>
          <p:cNvSpPr/>
          <p:nvPr/>
        </p:nvSpPr>
        <p:spPr>
          <a:xfrm>
            <a:off x="7670880" y="3149640"/>
            <a:ext cx="1001520" cy="6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Agilent TT Cond"/>
              </a:rPr>
              <a:t>U2802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gilent TT Cond"/>
              </a:rPr>
              <a:t>31 chn Thermocouple Signal Condition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97"/>
          <p:cNvSpPr/>
          <p:nvPr/>
        </p:nvSpPr>
        <p:spPr>
          <a:xfrm>
            <a:off x="7635960" y="3046320"/>
            <a:ext cx="1055520" cy="66852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8"/>
          <p:cNvSpPr/>
          <p:nvPr/>
        </p:nvSpPr>
        <p:spPr>
          <a:xfrm>
            <a:off x="158760" y="6019920"/>
            <a:ext cx="8848800" cy="276120"/>
          </a:xfrm>
          <a:prstGeom prst="rect">
            <a:avLst/>
          </a:prstGeom>
          <a:solidFill>
            <a:srgbClr val="ffffcc"/>
          </a:solidFill>
          <a:ln w="12600">
            <a:solidFill>
              <a:srgbClr val="275e77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Wingdings"/>
                <a:ea typeface="Wingdings"/>
              </a:rPr>
              <a:t></a:t>
            </a: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B interface     </a:t>
            </a:r>
            <a:r>
              <a:rPr b="1" lang="en-US" sz="1200" spc="-1" strike="noStrike">
                <a:solidFill>
                  <a:srgbClr val="ff3300"/>
                </a:solidFill>
                <a:latin typeface="Wingdings"/>
                <a:ea typeface="Wingdings"/>
              </a:rPr>
              <a:t>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Easy &amp; Quick Setup Software Conveni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10"/>
          <p:cNvSpPr/>
          <p:nvPr/>
        </p:nvSpPr>
        <p:spPr>
          <a:xfrm>
            <a:off x="1028880" y="1790640"/>
            <a:ext cx="787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3300"/>
                </a:solidFill>
                <a:latin typeface="Wingdings"/>
                <a:ea typeface="Wingdings"/>
              </a:rPr>
              <a:t>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al Pla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11"/>
          <p:cNvSpPr/>
          <p:nvPr/>
        </p:nvSpPr>
        <p:spPr>
          <a:xfrm>
            <a:off x="4495680" y="1816200"/>
            <a:ext cx="78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3300"/>
                </a:solidFill>
                <a:latin typeface="Wingdings"/>
                <a:ea typeface="Wingdings"/>
              </a:rPr>
              <a:t>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al Pla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12"/>
          <p:cNvSpPr/>
          <p:nvPr/>
        </p:nvSpPr>
        <p:spPr>
          <a:xfrm>
            <a:off x="6527880" y="1828800"/>
            <a:ext cx="787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3300"/>
                </a:solidFill>
                <a:latin typeface="Wingdings"/>
                <a:ea typeface="Wingdings"/>
              </a:rPr>
              <a:t>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ual Pla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view: Soft Front Panel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7160" y="1266480"/>
            <a:ext cx="86882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ilent Measurement Manag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ftware (AM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4" descr="USB scope AMiMM"/>
          <p:cNvPicPr/>
          <p:nvPr/>
        </p:nvPicPr>
        <p:blipFill>
          <a:blip r:embed="rId1"/>
          <a:stretch/>
        </p:blipFill>
        <p:spPr>
          <a:xfrm>
            <a:off x="503280" y="2166840"/>
            <a:ext cx="7151760" cy="40496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USB switch matrix AMiMM"/>
          <p:cNvPicPr/>
          <p:nvPr/>
        </p:nvPicPr>
        <p:blipFill>
          <a:blip r:embed="rId2"/>
          <a:stretch/>
        </p:blipFill>
        <p:spPr>
          <a:xfrm>
            <a:off x="5041800" y="890640"/>
            <a:ext cx="3422880" cy="226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Date Placeholder 3"/>
          <p:cNvSpPr/>
          <p:nvPr/>
        </p:nvSpPr>
        <p:spPr>
          <a:xfrm>
            <a:off x="7543800" y="6645240"/>
            <a:ext cx="13716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Jan 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4"/>
          <p:cNvSpPr/>
          <p:nvPr/>
        </p:nvSpPr>
        <p:spPr>
          <a:xfrm>
            <a:off x="228600" y="6638760"/>
            <a:ext cx="614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age </a:t>
            </a:r>
            <a:fld id="{DE00F372-1297-472D-B6C9-4710D5DB7488}" type="slidenum">
              <a:rPr b="0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Agilent Measurement Manager (AMM) – Bundled in sales of USB Modular Instruments and USB Modular DAQ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27160" y="1577520"/>
            <a:ext cx="868824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Aft>
                <a:spcPts val="15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ndled Software for quick configuration 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rogramming knowledge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le to access to all Agilent USB Modular Data Acquisition and USB Modular Instruments hardware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ogger function allows users to log the SCPI command sequence and the time command is exec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 Generator utility allows users to convert the logged SCPI commands to VEE8.5, Visual Basic/C++ and C#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Date Placeholder 3"/>
          <p:cNvSpPr/>
          <p:nvPr/>
        </p:nvSpPr>
        <p:spPr>
          <a:xfrm>
            <a:off x="7543800" y="6645240"/>
            <a:ext cx="13716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Jan 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4"/>
          <p:cNvSpPr/>
          <p:nvPr/>
        </p:nvSpPr>
        <p:spPr>
          <a:xfrm>
            <a:off x="228600" y="6638760"/>
            <a:ext cx="614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age </a:t>
            </a:r>
            <a:fld id="{E0B1E40F-3480-423C-B2FA-AED057AD5CB5}" type="slidenum">
              <a:rPr b="0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Command Logger – Available in AMM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pic>
        <p:nvPicPr>
          <p:cNvPr id="265" name="Picture 8" descr=""/>
          <p:cNvPicPr/>
          <p:nvPr/>
        </p:nvPicPr>
        <p:blipFill>
          <a:blip r:embed="rId1"/>
          <a:stretch/>
        </p:blipFill>
        <p:spPr>
          <a:xfrm>
            <a:off x="0" y="755640"/>
            <a:ext cx="9144000" cy="435132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9"/>
          <p:cNvSpPr/>
          <p:nvPr/>
        </p:nvSpPr>
        <p:spPr>
          <a:xfrm>
            <a:off x="128520" y="5165640"/>
            <a:ext cx="881064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Command Logger before starting device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the commands whe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igu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device via AM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Date Placeholder 3"/>
          <p:cNvSpPr/>
          <p:nvPr/>
        </p:nvSpPr>
        <p:spPr>
          <a:xfrm>
            <a:off x="7543800" y="6645240"/>
            <a:ext cx="13716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Jan 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228600" y="6638760"/>
            <a:ext cx="614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age </a:t>
            </a:r>
            <a:fld id="{E0F81B26-6732-4361-AB65-50F0B5A5A0C0}" type="slidenum">
              <a:rPr b="0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Code Converter – Available in AMM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27160" y="4281120"/>
            <a:ext cx="8572320" cy="19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saved command logger file into other langu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converters availa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ilent VEE Code Conver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oft C#/C++/VB Code Conver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6" descr=""/>
          <p:cNvPicPr/>
          <p:nvPr/>
        </p:nvPicPr>
        <p:blipFill>
          <a:blip r:embed="rId1"/>
          <a:stretch/>
        </p:blipFill>
        <p:spPr>
          <a:xfrm>
            <a:off x="237960" y="660240"/>
            <a:ext cx="543096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Command Logger – How to Access?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73" name="Date Placeholder 3"/>
          <p:cNvSpPr/>
          <p:nvPr/>
        </p:nvSpPr>
        <p:spPr>
          <a:xfrm>
            <a:off x="7543800" y="6645240"/>
            <a:ext cx="13716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Jan 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4"/>
          <p:cNvSpPr/>
          <p:nvPr/>
        </p:nvSpPr>
        <p:spPr>
          <a:xfrm>
            <a:off x="228600" y="6638760"/>
            <a:ext cx="614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age </a:t>
            </a:r>
            <a:fld id="{D14632B4-A0FD-46B0-8F0D-EBE2565479C4}" type="slidenum">
              <a:rPr b="0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4" descr="C:\Documents and Settings\engchneo\Desktop\ScreenHunter_03 Mar. 30 10.17.gif"/>
          <p:cNvPicPr/>
          <p:nvPr/>
        </p:nvPicPr>
        <p:blipFill>
          <a:blip r:embed="rId1"/>
          <a:stretch/>
        </p:blipFill>
        <p:spPr>
          <a:xfrm>
            <a:off x="514440" y="1195560"/>
            <a:ext cx="8048520" cy="4162320"/>
          </a:xfrm>
          <a:prstGeom prst="rect">
            <a:avLst/>
          </a:prstGeom>
          <a:ln w="0">
            <a:noFill/>
          </a:ln>
        </p:spPr>
      </p:pic>
      <p:sp>
        <p:nvSpPr>
          <p:cNvPr id="276" name="TextBox 8"/>
          <p:cNvSpPr/>
          <p:nvPr/>
        </p:nvSpPr>
        <p:spPr>
          <a:xfrm>
            <a:off x="620640" y="5432400"/>
            <a:ext cx="803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to bundled Agilent Measurement Manager Software -&gt; Tools -&gt; Command Log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26800" y="227160"/>
            <a:ext cx="86914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Code Converter – How to Access?</a:t>
            </a:r>
            <a:endParaRPr b="1" lang="en-US" sz="28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78" name="Date Placeholder 3"/>
          <p:cNvSpPr/>
          <p:nvPr/>
        </p:nvSpPr>
        <p:spPr>
          <a:xfrm>
            <a:off x="7543800" y="6645240"/>
            <a:ext cx="13716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Jan 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4"/>
          <p:cNvSpPr/>
          <p:nvPr/>
        </p:nvSpPr>
        <p:spPr>
          <a:xfrm>
            <a:off x="228600" y="6638760"/>
            <a:ext cx="614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age </a:t>
            </a:r>
            <a:fld id="{2D4442A1-2DC5-483A-970F-5431F8DE39BA}" type="slidenum">
              <a:rPr b="0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2" descr="C:\Documents and Settings\engchneo\Desktop\ScreenHunter_05 Mar. 30 10.20.gif"/>
          <p:cNvPicPr/>
          <p:nvPr/>
        </p:nvPicPr>
        <p:blipFill>
          <a:blip r:embed="rId1"/>
          <a:stretch/>
        </p:blipFill>
        <p:spPr>
          <a:xfrm>
            <a:off x="387360" y="903240"/>
            <a:ext cx="5945040" cy="3519360"/>
          </a:xfrm>
          <a:prstGeom prst="rect">
            <a:avLst/>
          </a:prstGeom>
          <a:ln w="0">
            <a:noFill/>
          </a:ln>
        </p:spPr>
      </p:pic>
      <p:sp>
        <p:nvSpPr>
          <p:cNvPr id="281" name="TextBox 6"/>
          <p:cNvSpPr/>
          <p:nvPr/>
        </p:nvSpPr>
        <p:spPr>
          <a:xfrm>
            <a:off x="282600" y="487692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to Command Logger Window -&gt; File -&gt; Convert Command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3" descr="C:\Documents and Settings\engchneo\Desktop\ScreenHunter_06 Mar. 30 10.21.gif"/>
          <p:cNvPicPr/>
          <p:nvPr/>
        </p:nvPicPr>
        <p:blipFill>
          <a:blip r:embed="rId2"/>
          <a:stretch/>
        </p:blipFill>
        <p:spPr>
          <a:xfrm>
            <a:off x="6610320" y="3921120"/>
            <a:ext cx="2533680" cy="2390760"/>
          </a:xfrm>
          <a:prstGeom prst="rect">
            <a:avLst/>
          </a:prstGeom>
          <a:ln w="0">
            <a:noFill/>
          </a:ln>
        </p:spPr>
      </p:pic>
      <p:sp>
        <p:nvSpPr>
          <p:cNvPr id="283" name="Right Arrow 8"/>
          <p:cNvSpPr/>
          <p:nvPr/>
        </p:nvSpPr>
        <p:spPr>
          <a:xfrm>
            <a:off x="5224320" y="5170320"/>
            <a:ext cx="1165320" cy="54468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0099cc"/>
          </a:solidFill>
          <a:ln w="12600">
            <a:solidFill>
              <a:srgbClr val="00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4T03:26:34Z</dcterms:created>
  <dc:creator>Eng Chye NEO</dc:creator>
  <dc:description/>
  <dc:language>en-US</dc:language>
  <cp:lastModifiedBy>Eng Chye NEO</cp:lastModifiedBy>
  <dcterms:modified xsi:type="dcterms:W3CDTF">2009-04-16T06:49:03Z</dcterms:modified>
  <cp:revision>267</cp:revision>
  <dc:subject/>
  <dc:title>USB Modular Product Software Function_Command Logger and Code Converter</dc:title>
</cp:coreProperties>
</file>